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3B67-FED5-4468-BF21-B6FEFC669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3D6C-E42A-4CAB-A22F-75D2D9DF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83CE-34EF-42D6-9228-C6AA773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1B30-0695-4270-B7ED-C70EB9674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A900D-FDE1-41BF-9F31-B4771AE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032A2-5813-4AA7-8F8F-74F8C65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D949-C035-4325-B70A-5FE3A315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7CD3B-6D68-4CD7-AC5D-89EB248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F8220-2C17-4C7E-90EC-3880BF1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2613A-4365-461C-B152-40729D6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EB5D8-F5CC-43C7-808B-B135D34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B640-80BF-4A38-A27C-CD56813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8C566-02F4-4C48-9ACD-CDE7232E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337C-0F1C-4380-BBFE-23443D3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77CB-D9B6-4A0F-AC46-35A3396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EAEC-932D-4CF4-8D5C-2D7E0F07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7D8EB-754D-4B64-A617-9FDAC5B6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3501-825B-4C1E-A954-9EABC0A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70F0-C15A-4225-B40F-ED09A2F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D3E4-BB1A-4E4E-8D1D-B3694CA6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A7D2-6BB7-480F-A8C7-012F110A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9929-98BC-4C6A-B411-2A13C4ED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73A7-5D5C-4CB0-8A51-B0D8C56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C202-000B-4DFC-8BF5-E332EB4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2"/>
          <p:cNvSpPr/>
          <p:nvPr/>
        </p:nvSpPr>
        <p:spPr>
          <a:xfrm>
            <a:off x="-17640" y="6222960"/>
            <a:ext cx="9172800" cy="662040"/>
          </a:xfrm>
          <a:custGeom>
            <a:avLst/>
            <a:gdLst>
              <a:gd name="textAreaLeft" fmla="*/ 0 w 9172800"/>
              <a:gd name="textAreaRight" fmla="*/ 9173160 w 91728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5778" h="417">
                <a:moveTo>
                  <a:pt x="5771" y="403"/>
                </a:moveTo>
                <a:lnTo>
                  <a:pt x="4" y="417"/>
                </a:lnTo>
                <a:lnTo>
                  <a:pt x="0" y="24"/>
                </a:lnTo>
                <a:cubicBezTo>
                  <a:pt x="369" y="0"/>
                  <a:pt x="1255" y="261"/>
                  <a:pt x="2218" y="272"/>
                </a:cubicBezTo>
                <a:cubicBezTo>
                  <a:pt x="3181" y="283"/>
                  <a:pt x="5186" y="69"/>
                  <a:pt x="5778" y="91"/>
                </a:cubicBezTo>
                <a:lnTo>
                  <a:pt x="5771" y="403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1"/>
          <p:cNvSpPr/>
          <p:nvPr/>
        </p:nvSpPr>
        <p:spPr>
          <a:xfrm>
            <a:off x="-33480" y="-44280"/>
            <a:ext cx="9580680" cy="2172960"/>
          </a:xfrm>
          <a:custGeom>
            <a:avLst/>
            <a:gdLst>
              <a:gd name="textAreaLeft" fmla="*/ 0 w 9580680"/>
              <a:gd name="textAreaRight" fmla="*/ 9581040 w 9580680"/>
              <a:gd name="textAreaTop" fmla="*/ 0 h 2172960"/>
              <a:gd name="textAreaBottom" fmla="*/ 2173320 h 2172960"/>
            </a:gdLst>
            <a:ahLst/>
            <a:rect l="textAreaLeft" t="textAreaTop" r="textAreaRight" b="textAreaBottom"/>
            <a:pathLst>
              <a:path w="6035" h="1369">
                <a:moveTo>
                  <a:pt x="5" y="7"/>
                </a:moveTo>
                <a:lnTo>
                  <a:pt x="5816" y="0"/>
                </a:lnTo>
                <a:lnTo>
                  <a:pt x="5816" y="1249"/>
                </a:lnTo>
                <a:cubicBezTo>
                  <a:pt x="5691" y="1369"/>
                  <a:pt x="6035" y="772"/>
                  <a:pt x="5066" y="722"/>
                </a:cubicBezTo>
                <a:cubicBezTo>
                  <a:pt x="4097" y="672"/>
                  <a:pt x="843" y="1070"/>
                  <a:pt x="0" y="951"/>
                </a:cubicBezTo>
                <a:lnTo>
                  <a:pt x="5" y="7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23E-7989-4B28-ADAA-AF212D6E3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2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6" name="Group 113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7" name="AutoShape 114"/>
              <p:cNvSpPr/>
              <p:nvPr/>
            </p:nvSpPr>
            <p:spPr>
              <a:xfrm>
                <a:off x="7696080" y="5687640"/>
                <a:ext cx="944640" cy="945000"/>
              </a:xfrm>
              <a:custGeom>
                <a:avLst/>
                <a:gdLst>
                  <a:gd name="textAreaLeft" fmla="*/ 138600 w 944640"/>
                  <a:gd name="textAreaRight" fmla="*/ 806400 w 944640"/>
                  <a:gd name="textAreaTop" fmla="*/ 138600 h 945000"/>
                  <a:gd name="textAreaBottom" fmla="*/ 806400 h 94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115"/>
              <p:cNvSpPr/>
              <p:nvPr/>
            </p:nvSpPr>
            <p:spPr>
              <a:xfrm>
                <a:off x="7902360" y="5893920"/>
                <a:ext cx="531720" cy="532080"/>
              </a:xfrm>
              <a:custGeom>
                <a:avLst/>
                <a:gdLst>
                  <a:gd name="textAreaLeft" fmla="*/ 77400 w 531720"/>
                  <a:gd name="textAreaRight" fmla="*/ 454320 w 531720"/>
                  <a:gd name="textAreaTop" fmla="*/ 77400 h 532080"/>
                  <a:gd name="textAreaBottom" fmla="*/ 454680 h 53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6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0" name="AutoShape 117"/>
              <p:cNvSpPr/>
              <p:nvPr/>
            </p:nvSpPr>
            <p:spPr>
              <a:xfrm>
                <a:off x="8595360" y="5800320"/>
                <a:ext cx="281160" cy="281160"/>
              </a:xfrm>
              <a:custGeom>
                <a:avLst/>
                <a:gdLst>
                  <a:gd name="textAreaLeft" fmla="*/ 41040 w 281160"/>
                  <a:gd name="textAreaRight" fmla="*/ 240120 w 281160"/>
                  <a:gd name="textAreaTop" fmla="*/ 41040 h 281160"/>
                  <a:gd name="textAreaBottom" fmla="*/ 24012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8"/>
              <p:cNvSpPr/>
              <p:nvPr/>
            </p:nvSpPr>
            <p:spPr>
              <a:xfrm>
                <a:off x="8656560" y="5861520"/>
                <a:ext cx="158400" cy="15840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158400"/>
                  <a:gd name="textAreaBottom" fmla="*/ 135360 h 15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9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3" name="AutoShape 120"/>
              <p:cNvSpPr/>
              <p:nvPr/>
            </p:nvSpPr>
            <p:spPr>
              <a:xfrm>
                <a:off x="8291880" y="5192640"/>
                <a:ext cx="641160" cy="641520"/>
              </a:xfrm>
              <a:custGeom>
                <a:avLst/>
                <a:gdLst>
                  <a:gd name="textAreaLeft" fmla="*/ 93960 w 641160"/>
                  <a:gd name="textAreaRight" fmla="*/ 547200 w 641160"/>
                  <a:gd name="textAreaTop" fmla="*/ 93960 h 641520"/>
                  <a:gd name="textAreaBottom" fmla="*/ 547560 h 64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21"/>
              <p:cNvSpPr/>
              <p:nvPr/>
            </p:nvSpPr>
            <p:spPr>
              <a:xfrm>
                <a:off x="8431920" y="5332680"/>
                <a:ext cx="361080" cy="361080"/>
              </a:xfrm>
              <a:custGeom>
                <a:avLst/>
                <a:gdLst>
                  <a:gd name="textAreaLeft" fmla="*/ 52560 w 361080"/>
                  <a:gd name="textAreaRight" fmla="*/ 308520 w 361080"/>
                  <a:gd name="textAreaTop" fmla="*/ 52560 h 361080"/>
                  <a:gd name="textAreaBottom" fmla="*/ 308520 h 36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58"/>
          <p:cNvSpPr/>
          <p:nvPr/>
        </p:nvSpPr>
        <p:spPr>
          <a:xfrm>
            <a:off x="-33480" y="-33480"/>
            <a:ext cx="9577440" cy="6818400"/>
          </a:xfrm>
          <a:custGeom>
            <a:avLst/>
            <a:gdLst>
              <a:gd name="textAreaLeft" fmla="*/ 0 w 9577440"/>
              <a:gd name="textAreaRight" fmla="*/ 9577800 w 9577440"/>
              <a:gd name="textAreaTop" fmla="*/ 0 h 6818400"/>
              <a:gd name="textAreaBottom" fmla="*/ 6818760 h 6818400"/>
            </a:gdLst>
            <a:ahLst/>
            <a:rect l="textAreaLeft" t="textAreaTop" r="textAreaRight" b="textAreaBottom"/>
            <a:pathLst>
              <a:path w="6033" h="4295">
                <a:moveTo>
                  <a:pt x="5" y="0"/>
                </a:moveTo>
                <a:lnTo>
                  <a:pt x="5802" y="14"/>
                </a:lnTo>
                <a:lnTo>
                  <a:pt x="5802" y="3905"/>
                </a:lnTo>
                <a:cubicBezTo>
                  <a:pt x="5679" y="4295"/>
                  <a:pt x="6033" y="2484"/>
                  <a:pt x="5066" y="2352"/>
                </a:cubicBezTo>
                <a:cubicBezTo>
                  <a:pt x="4099" y="2221"/>
                  <a:pt x="843" y="3497"/>
                  <a:pt x="0" y="3106"/>
                </a:cubicBezTo>
                <a:lnTo>
                  <a:pt x="5" y="0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93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4" name="Group 84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5" name="AutoShape 85"/>
              <p:cNvSpPr/>
              <p:nvPr/>
            </p:nvSpPr>
            <p:spPr>
              <a:xfrm>
                <a:off x="6076800" y="1291320"/>
                <a:ext cx="2172960" cy="2173680"/>
              </a:xfrm>
              <a:custGeom>
                <a:avLst/>
                <a:gdLst>
                  <a:gd name="textAreaLeft" fmla="*/ 318600 w 2172960"/>
                  <a:gd name="textAreaRight" fmla="*/ 1854360 w 2172960"/>
                  <a:gd name="textAreaTop" fmla="*/ 318600 h 2173680"/>
                  <a:gd name="textAreaBottom" fmla="*/ 1855080 h 21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86"/>
              <p:cNvSpPr/>
              <p:nvPr/>
            </p:nvSpPr>
            <p:spPr>
              <a:xfrm>
                <a:off x="6551280" y="1765800"/>
                <a:ext cx="1223280" cy="1224000"/>
              </a:xfrm>
              <a:custGeom>
                <a:avLst/>
                <a:gdLst>
                  <a:gd name="textAreaLeft" fmla="*/ 178200 w 1223280"/>
                  <a:gd name="textAreaRight" fmla="*/ 1045080 w 1223280"/>
                  <a:gd name="textAreaTop" fmla="*/ 178200 h 1224000"/>
                  <a:gd name="textAreaBottom" fmla="*/ 10458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87"/>
            <p:cNvGrpSpPr/>
            <p:nvPr/>
          </p:nvGrpSpPr>
          <p:grpSpPr>
            <a:xfrm>
              <a:off x="8146080" y="1550160"/>
              <a:ext cx="646920" cy="646920"/>
              <a:chOff x="8146080" y="1550160"/>
              <a:chExt cx="646920" cy="646920"/>
            </a:xfrm>
          </p:grpSpPr>
          <p:sp>
            <p:nvSpPr>
              <p:cNvPr id="58" name="AutoShape 88"/>
              <p:cNvSpPr/>
              <p:nvPr/>
            </p:nvSpPr>
            <p:spPr>
              <a:xfrm>
                <a:off x="8146080" y="1550160"/>
                <a:ext cx="646920" cy="646920"/>
              </a:xfrm>
              <a:custGeom>
                <a:avLst/>
                <a:gdLst>
                  <a:gd name="textAreaLeft" fmla="*/ 94680 w 646920"/>
                  <a:gd name="textAreaRight" fmla="*/ 552240 w 646920"/>
                  <a:gd name="textAreaTop" fmla="*/ 94680 h 646920"/>
                  <a:gd name="textAreaBottom" fmla="*/ 552240 h 64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89"/>
              <p:cNvSpPr/>
              <p:nvPr/>
            </p:nvSpPr>
            <p:spPr>
              <a:xfrm>
                <a:off x="8287200" y="1691280"/>
                <a:ext cx="364320" cy="364320"/>
              </a:xfrm>
              <a:custGeom>
                <a:avLst/>
                <a:gdLst>
                  <a:gd name="textAreaLeft" fmla="*/ 52920 w 364320"/>
                  <a:gd name="textAreaRight" fmla="*/ 311400 w 364320"/>
                  <a:gd name="textAreaTop" fmla="*/ 52920 h 364320"/>
                  <a:gd name="textAreaBottom" fmla="*/ 31140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90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61" name="AutoShape 91"/>
              <p:cNvSpPr/>
              <p:nvPr/>
            </p:nvSpPr>
            <p:spPr>
              <a:xfrm>
                <a:off x="7448040" y="152280"/>
                <a:ext cx="1475280" cy="1475640"/>
              </a:xfrm>
              <a:custGeom>
                <a:avLst/>
                <a:gdLst>
                  <a:gd name="textAreaLeft" fmla="*/ 216360 w 1475280"/>
                  <a:gd name="textAreaRight" fmla="*/ 1258920 w 1475280"/>
                  <a:gd name="textAreaTop" fmla="*/ 216360 h 1475640"/>
                  <a:gd name="textAreaBottom" fmla="*/ 1259280 h 147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92"/>
              <p:cNvSpPr/>
              <p:nvPr/>
            </p:nvSpPr>
            <p:spPr>
              <a:xfrm>
                <a:off x="7769880" y="474480"/>
                <a:ext cx="830520" cy="830880"/>
              </a:xfrm>
              <a:custGeom>
                <a:avLst/>
                <a:gdLst>
                  <a:gd name="textAreaLeft" fmla="*/ 120960 w 830520"/>
                  <a:gd name="textAreaRight" fmla="*/ 709560 w 830520"/>
                  <a:gd name="textAreaTop" fmla="*/ 120960 h 830880"/>
                  <a:gd name="textAreaBottom" fmla="*/ 709920 h 83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BE8-EEED-42DF-9E79-45726D0A3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1881000"/>
            <a:ext cx="558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bot, walk that line!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GB" sz="2800" spc="-1" strike="noStrike" baseline="60000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00720" y="4689360"/>
            <a:ext cx="43192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y of jus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August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Grafik 8" descr="logoBEST.png"/>
          <p:cNvPicPr/>
          <p:nvPr/>
        </p:nvPicPr>
        <p:blipFill>
          <a:blip r:embed="rId1"/>
          <a:stretch/>
        </p:blipFill>
        <p:spPr>
          <a:xfrm>
            <a:off x="428760" y="5715000"/>
            <a:ext cx="1400040" cy="7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ST Team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2181240"/>
            <a:ext cx="6138360" cy="33480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bbits &amp; Two Hats” te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ssandro Colo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zegorz Marzenc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adimir Kot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Grafik 4" descr="robot_right_s.png"/>
          <p:cNvPicPr/>
          <p:nvPr/>
        </p:nvPicPr>
        <p:blipFill>
          <a:blip r:embed="rId1"/>
          <a:stretch/>
        </p:blipFill>
        <p:spPr>
          <a:xfrm>
            <a:off x="428760" y="1571760"/>
            <a:ext cx="88416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Grafik 5" descr="P1020824.JPG"/>
          <p:cNvPicPr/>
          <p:nvPr/>
        </p:nvPicPr>
        <p:blipFill>
          <a:blip r:embed="rId1"/>
          <a:stretch/>
        </p:blipFill>
        <p:spPr>
          <a:xfrm>
            <a:off x="781200" y="4138560"/>
            <a:ext cx="3297240" cy="247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03920" y="1761120"/>
            <a:ext cx="7764120" cy="21920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e line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front sensor for obstacle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stacle avoidance via path with fixed length legs + line sear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mping objects at the end of th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Grafik 6" descr="P1020823.JPG"/>
          <p:cNvPicPr/>
          <p:nvPr/>
        </p:nvPicPr>
        <p:blipFill>
          <a:blip r:embed="rId2"/>
          <a:stretch/>
        </p:blipFill>
        <p:spPr>
          <a:xfrm>
            <a:off x="4352760" y="4138560"/>
            <a:ext cx="324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Rechteck 10"/>
          <p:cNvSpPr/>
          <p:nvPr/>
        </p:nvSpPr>
        <p:spPr>
          <a:xfrm>
            <a:off x="5429160" y="5286240"/>
            <a:ext cx="1214640" cy="50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feld 11"/>
          <p:cNvSpPr/>
          <p:nvPr/>
        </p:nvSpPr>
        <p:spPr>
          <a:xfrm>
            <a:off x="5650200" y="57862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Line sen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hteck 12"/>
          <p:cNvSpPr/>
          <p:nvPr/>
        </p:nvSpPr>
        <p:spPr>
          <a:xfrm>
            <a:off x="1928880" y="4929120"/>
            <a:ext cx="5000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feld 13"/>
          <p:cNvSpPr/>
          <p:nvPr/>
        </p:nvSpPr>
        <p:spPr>
          <a:xfrm>
            <a:off x="1795680" y="42861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Front IR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hteck 21"/>
          <p:cNvSpPr/>
          <p:nvPr/>
        </p:nvSpPr>
        <p:spPr>
          <a:xfrm>
            <a:off x="785880" y="4572000"/>
            <a:ext cx="10713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feld 22"/>
          <p:cNvSpPr/>
          <p:nvPr/>
        </p:nvSpPr>
        <p:spPr>
          <a:xfrm>
            <a:off x="864720" y="60008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Clam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ggest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alignment at the end of th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tuning of obstacle avoidanc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2C 5-LED module for line following (los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ecial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bs an object at the end of the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rns 180 d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ks the path back to the start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the objec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52:17Z</dcterms:created>
  <dc:creator>Presentation Helper</dc:creator>
  <dc:description/>
  <dc:language>en-US</dc:language>
  <cp:lastModifiedBy>robotic</cp:lastModifiedBy>
  <dcterms:modified xsi:type="dcterms:W3CDTF">2009-08-13T15:10:55Z</dcterms:modified>
  <cp:revision>22</cp:revision>
  <dc:subject/>
  <dc:title>Circles Blue Template</dc:title>
</cp:coreProperties>
</file>